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D7EE-E3AD-4AF1-8914-6F35A44BBDFD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01FC-84DB-44C0-95E3-DEE69915D99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8906-95B7-48C9-B47A-49A633BC4517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D57F-E692-4B46-A4DD-C90EE371EDE3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3BFB-17AB-4571-A7D5-24C4664F02BD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0956-C6CE-4CA0-8349-9A654B1D2601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C6DB-AA31-4C06-95F2-314DBCE776F7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95E2-8EAE-46D0-8119-BC59874C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558A-6706-4441-8B8F-8B75EA2E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5169-FBC9-4636-8EAC-A3182172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E3C4-856C-471F-B518-06E712DD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1BA3-ACA6-4083-88C0-1F9F658D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6F58-D3F0-4573-8BA0-EB8D2C0D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507E-B5CC-4308-A49E-CF1A2C37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6CF2-105D-4C2F-895D-F1817601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D73C-B689-4362-A5B4-8F899A80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6EC3-E9A5-448E-B068-8B6D59DE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2B87-8E12-4B36-A2AB-1444F06F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4F6-9CF7-4F4D-AA11-2EFBE2AD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550E-21EF-45D2-8070-352540A5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6E9C-0113-4AF4-8F0A-6AE9EC02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0675-A79A-4676-BF06-92DD707B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55ED-945B-4D19-8F98-520FADF7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7AE2-0CA1-465B-8A32-4A8F6C82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177DF-D850-4EF6-A73E-BBCDDC0A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4C5F5-A9E3-40F8-9DF3-09BFAA33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36AA1-6E38-4E53-824C-8CC2FC9A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5191A-CA6C-4180-82B2-D464FAB2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CE7B3-893C-4A14-B747-D7900771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E71D-2F70-48DE-96EC-00EFED1F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17A04-432E-4CC8-BB54-AC825A97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CFA9F1-0230-4431-AB8B-9CED0F49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03B44-EEB2-4D34-BF60-7C01026F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699B0-06AA-496D-A4F8-A9BAD688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CF3618-654A-4FBB-BF15-7C88914B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931D4-93E7-4DE2-9A54-77FDB841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4F8C8-C9DB-4DA3-88AB-E95F0102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3B7DD-8795-41F6-954A-6C5CE285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D0521-C629-4C3B-A45D-57735947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0DA20-22C8-41B5-B8F2-BCA7CBCD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376F-092B-4B4F-8FFF-126B01C2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E27EA-420D-40E6-8231-DAF83EEC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AD2AE-7121-4C95-9A87-C1BCFDA3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3A783-B61F-45AD-ADB8-DE8EA65B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B05A8-9266-4291-8BB0-F7956048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94B06-B0E8-47C4-8F78-F5F31861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97ADA-756E-4C8A-BF97-19BD1E48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BAD96-423D-4A2E-AD46-4C9A8953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DC3DB-4093-4001-8A22-F98584A0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C35F6-6F0E-4898-A926-57678A4E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7C2-0F2C-41FA-9AD1-927F8AF1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06E-EF23-4CBD-BBD5-230F36DC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E508-0E18-4842-92F6-DC0CDBFD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DAE-237B-498D-BEC7-F7536E2B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C13B-C3B4-49A8-8F0B-80CFD380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11F3-38D9-4854-A0DC-F5FE10B06844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직사각형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직사각형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직사각형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모서리가 둥근 직사각형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모서리가 둥근 직사각형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직사각형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직사각형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직사각형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직사각형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07A0-A2B5-41D5-AE38-8A56C2E6BC5E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9E30-002C-4091-B352-6BA2A3A1C896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F193-9084-4954-BF43-A927801A89F3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완벽한 디자인은 가능한가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현대 기술과 공학의 철학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7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주차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0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5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정동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완벽한 집 구하기의 어려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경쟁하는 목표가 너무 많다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좋은 이웃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좋은 위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좋은 교육환경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햇빛이 잘 들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공간도 넓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수리할 필요가 없고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적절한 예산을 초과하지 않아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동거인과의 상이한 목표 또는 상이한 가중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목표 사이의 절충과 타협이 필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완벽한 집 짓기의 어려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디자인의 자유와 구속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재료와 형태를 마음대로 결정할 수 있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그 결과는 제멋대로의 집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!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예산과 시간의 제약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내적 제약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하나의 결정이 다른 것에 영향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재료의 특성 등에 따른 물리적 제약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외적 제약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법과 도덕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고도제한 법령이나 주변 이웃과의 조화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구현의 어려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예상치 못했던 문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름다움을 고려한 설계가 공간을 줄이는 일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예상과의 불일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림으로 생각했을 때와 다른 경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정보 공유의 불완정성 문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나무 마루를 깔기로 공유했다고 생각했지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업자는 베니어판을 생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저자가 생각한 나무는 생산되지 않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수 제작에는 비용과 시간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많이 듦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적 인공물에 대한 재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능을 가진 물리적 구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from Peter Kroe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능은 인간의 의도와 목표로부터 오지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 기능의 구현은 물리적 구조에 의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원하는 모든 목표를 구현하기 위한 물리적 구조는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현재로는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불가능하거나 고비용일 가능성 큼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절충과 타협을 통해 목표를 재조정함으로써 현실적으로 가능한 물리적 구조를  얻을 수 있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능의 구현과 물리적 지식은 매우 밀접한 관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모든 물리적 지식이 과학 이론으로부터 유도되진 않지만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클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젬클립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완전하진 않지만 좋은 인공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종이를 핀으로 철하는 방법의 문제점 상당수 해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계로 자동 제작하여 핀만큼 저렴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럼에도 여러 단점이 있음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새로운 클립 특허 많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 중 극소수만 살아 남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비싸지만 종이를 덜 찢고 더 많은 종이를 무는 클립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철사를 절약해 저렴하지만 힘이 약한 클립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양방향으로 낄 수 있는 클립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여전히 대세는 젬클립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22:12:23Z</dcterms:created>
  <dc:creator>zolaist</dc:creator>
  <dc:description/>
  <dc:language>en-US</dc:language>
  <cp:lastModifiedBy>zolaist</cp:lastModifiedBy>
  <dcterms:modified xsi:type="dcterms:W3CDTF">2010-10-15T02:49:14Z</dcterms:modified>
  <cp:revision>8</cp:revision>
  <dc:subject/>
  <dc:title>완벽한 디자인은 가능한가?</dc:title>
</cp:coreProperties>
</file>